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3DB6-D90E-4DC2-BC42-977A539D1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DEC6-B32E-486F-9630-E91A5F8EE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295A-E94A-4CDF-BBCE-621DD1234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23DC-DB76-4C47-82E2-ACB8F92C9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B18C9-9465-40BD-ADC2-21D35A252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5B6FF-4C9B-4F95-9B09-35E5AF830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60ABA-96E6-421E-9CCD-21E354E0B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57B87-1C3B-41FE-9332-05C06E317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BF8DE-0F46-4621-B13B-93B62A95C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976DE-B9A1-4033-8332-D4670B356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0997A-C245-430D-8F1F-38332BC6E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D8F4-0FA9-45E8-B31C-3268C1465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75042-8FF3-44AE-931B-C363C94B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51C6C-4D01-47AF-91F1-D0DF2043F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A1EAA-9226-46A6-B0AC-7B666A89C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50081-AC7B-4E33-9DE6-A1DCE8BA1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D275F-BF53-47A3-9936-E8D2A9A44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103A-C07B-4C12-8929-B01ED6172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25B5-AD97-4967-8C0B-72BDDC9B7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EBD2-F06C-474B-842A-A4424821F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33F0-9099-4EBA-8360-B80433237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F520-F3FA-40F1-8B71-3AD88445E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F47B-54C0-492E-A015-8518C8F8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B7FC-FAFD-45B3-9DE3-9A7EBC4F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56A78-775B-48FC-967C-A85CCE4DCA1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5FEA4-50BD-48A1-83E8-03DBB0DD93D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Урок обобщения. Протестантизм</a:t>
            </a:r>
            <a:endParaRPr b="0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971640" y="189000"/>
            <a:ext cx="7777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Муниципальное образовательное учреждение СОШ №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76720" y="6308640"/>
            <a:ext cx="31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Г. Бор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516720" y="5229360"/>
            <a:ext cx="23032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Выполни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учитель истории и обществозн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Максимович Л.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Этапы игр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 конкурс- «Разминка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 конкурс – «Вопрос в мешке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3 конкурс – «Кроссворд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4 конкурс – «Заморочки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Правила игр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Будь активен, внимателен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Уважай мнение собеседника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Излагай мысли кратко и понятн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Отвечай точно на поставленный вопрос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63560" y="2606760"/>
            <a:ext cx="3394080" cy="21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«Разминка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000" y="2017440"/>
            <a:ext cx="403236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 течении 2 минут запишите культовые особенности протестантизма (общее задание для всех команд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Критерии оценивания: за каждую особенность - 1 балл. Победит команда, записавшая большее количество верных ответов за 2 минут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468680" y="2262240"/>
            <a:ext cx="3775320" cy="27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«Вопрос в мешке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17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Каждой команде будет предложено ответить на 2 вопроса по жребию. На его обсуждение предоставляется одна минута. В случае если команда не справиться с вопросом. У других команд будет возможность заработать дополнительные баллы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835280" y="3573360"/>
            <a:ext cx="5413320" cy="27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«Кроссворд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144760" y="2017440"/>
            <a:ext cx="38098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 течении 5 минут вам необходимо разгадать кроссворд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ритерии оценивания: за каждое верно отгаданное слово -1 бал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79280" y="2133720"/>
            <a:ext cx="4913280" cy="36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«Заморочки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оотнесите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Догмат протестантизма и его суть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Название протестантского течения и его особенност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Критерии оценивания: за каждое верное соответствие -1 балл. На выполнение задания - 3 минуты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824360" y="1866960"/>
            <a:ext cx="321948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Таблица итого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684360" y="2017800"/>
          <a:ext cx="8270640" cy="4114800"/>
        </p:xfrm>
        <a:graphic>
          <a:graphicData uri="http://schemas.openxmlformats.org/drawingml/2006/table">
            <a:tbl>
              <a:tblPr/>
              <a:tblGrid>
                <a:gridCol w="1584000"/>
                <a:gridCol w="1656000"/>
                <a:gridCol w="1439640"/>
                <a:gridCol w="1729080"/>
                <a:gridCol w="18619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азвание коман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Разминка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Вопрос в мешке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Кроссворд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Заморочки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20:06:23Z</dcterms:created>
  <dc:creator>папа</dc:creator>
  <dc:description/>
  <dc:language>en-US</dc:language>
  <cp:lastModifiedBy>папа</cp:lastModifiedBy>
  <dcterms:modified xsi:type="dcterms:W3CDTF">2011-03-16T12:37:48Z</dcterms:modified>
  <cp:revision>6</cp:revision>
  <dc:subject/>
  <dc:title>Урок обобщения. Протестантизм</dc:title>
</cp:coreProperties>
</file>